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E35B-BDFA-413D-A494-6B0EEB041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ещё несколько слайдов «на всякий случай» для ответов на возмо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ещё несколько слайдов «на всякий случай» для ответов на возмо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ещё несколько слайдов «на всякий случай» для ответов на возмо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ещё несколько слайдов «на всякий случай» для ответов на возмо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ещё несколько слайдов «на всякий случай» для ответов на возмо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ещё несколько слайдов «на всякий случай» для ответов на возмо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ещё несколько слайдов «на всякий случай» для ответов на возмо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ещё несколько слайдов «на всякий случай» для ответов на возмож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095-5AB1-444A-B01D-51EE45A2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D0C-A894-43C4-82C0-8C608BCB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F49-2B05-4CA7-B1A4-21BE8C62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9B0-36C8-45C5-A545-64DC52D1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E1E94-CA7A-4FFE-8270-B605FCE7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2865E-33E0-4EB6-BEF1-D94A1574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2E1A2-C238-40B0-B998-D6EA9B06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364F5-2E02-48C5-A174-B59C0FE5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76F0D-3583-4F6C-83B6-9827DF93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E0406-9EF2-4EBD-8AE5-734933CE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76BFE-A9A8-45DA-8CE7-D461F2C0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A6D-7E88-40AB-A966-B3435600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4A264-A6F4-40E5-9458-016E2AED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10804-22E0-4A43-98AA-0BC9A76D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F5AA7-4A81-41A8-AFEE-999E2295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E84BF-F045-454E-A128-7D8D88C5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9346E-75EE-4BAF-B68D-4CC07582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EA13-83B8-4B19-BB07-EE65F3DC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231-ADE4-4864-A324-432E9E8A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835-438B-418F-8380-C4EEBEC1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B40-CDB4-4979-A9DB-B1ABB89E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7A6-7C92-4678-AD1E-0D6041E3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221-84F5-4713-AA51-B0C41158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B71B-31BA-4D40-8A73-0C1307E5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79C0-B377-4A42-8F30-42EFA6A15D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24B8-6EA0-4AB2-8E9A-B9827B3C0B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90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07084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t.Petersburg State University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f Film and Televis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2565360"/>
            <a:ext cx="665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plication of System-on-Chip Technology in Tele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5445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PETERSBU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16720" y="400536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ulia Kuhm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2840" y="40053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ented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49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Разработка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-блоков;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 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Конструирование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oC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 на системно-функциональном уровне из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C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;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  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 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Интеграция всех блоков на кристалле.</a:t>
              </a: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  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95280" y="404640"/>
            <a:ext cx="8353440" cy="60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1844640"/>
            <a:ext cx="69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18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RE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12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00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r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01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e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UM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Z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UMP st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620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Counter Assembler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55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337440" cy="4894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27680" y="549360"/>
            <a:ext cx="530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ModelSim dialog bo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Pre-synthesis wavefo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60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121120" y="549360"/>
            <a:ext cx="55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ModelSim dialog bo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Post-synthesis wavefo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76108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65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823200" y="764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urier New"/>
              </a:rPr>
              <a:t>RE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1484280"/>
            <a:ext cx="8136000" cy="56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oC with integrated microprocessor c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have possibility to lear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ing way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put into registers/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utput from registers/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titive routines (timers, count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controller working wavefor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70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595160" y="2747160"/>
            <a:ext cx="60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urier New"/>
              </a:rPr>
              <a:t>Thank you for your time</a:t>
            </a:r>
            <a:r>
              <a:rPr b="1" lang="ru-RU" sz="3200" spc="-1" strike="noStrike">
                <a:solidFill>
                  <a:srgbClr val="003300"/>
                </a:solidFill>
                <a:latin typeface="Courier New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98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964800" y="1341360"/>
            <a:ext cx="6057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unicatio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telecommunications system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network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V/HDTV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dio navig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media applic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549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Courier New"/>
              </a:rPr>
              <a:t>Rapid development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4221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6320" y="4376880"/>
            <a:ext cx="39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Courier New"/>
              </a:rPr>
              <a:t>consumers desires</a:t>
            </a:r>
            <a:r>
              <a:rPr b="0" lang="en-US" sz="2800" spc="-1" strike="noStrike">
                <a:solidFill>
                  <a:srgbClr val="9933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9440" y="4365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=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9040" y="5084640"/>
            <a:ext cx="58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CATION OF DIGITAL CIRCUIT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07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373400" y="549360"/>
            <a:ext cx="65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Classical</a:t>
            </a:r>
            <a:r>
              <a:rPr b="1" lang="ru-RU" sz="2800" spc="-1" strike="noStrike">
                <a:solidFill>
                  <a:srgbClr val="003300"/>
                </a:solidFill>
                <a:latin typeface="Courier New"/>
              </a:rPr>
              <a:t> Printed circuit c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840720" cy="4294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32360" y="5013360"/>
            <a:ext cx="2400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Electron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Compon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0920" y="5013360"/>
            <a:ext cx="2057400" cy="87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Discrete Elem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14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900000" y="765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66"/>
                </a:solidFill>
                <a:latin typeface="Courier New"/>
              </a:rPr>
              <a:t>IP-unit (Intellectual Proper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251784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4149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-units - analogue of real electronic compon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5084640"/>
            <a:ext cx="614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peculiarity of IP-units is a </a:t>
            </a: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frequent 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413000"/>
            <a:ext cx="8207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3366"/>
                </a:solidFill>
                <a:uFillTx/>
                <a:latin typeface="Courier New"/>
              </a:rPr>
              <a:t>System-on-Chip</a:t>
            </a:r>
            <a:r>
              <a:rPr b="1" lang="en-US" sz="2800" spc="-1" strike="noStrike" u="sng">
                <a:solidFill>
                  <a:srgbClr val="990033"/>
                </a:solidFill>
                <a:uFillTx/>
                <a:latin typeface="Courier New"/>
              </a:rPr>
              <a:t> </a:t>
            </a:r>
            <a:r>
              <a:rPr b="1" lang="en-US" sz="2800" spc="-1" strike="noStrike" u="sng">
                <a:solidFill>
                  <a:srgbClr val="cc00cc"/>
                </a:solidFill>
                <a:uFillTx/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integrated into microelectronic unit </a:t>
            </a: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system</a:t>
            </a: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treaming data processing, which has a </a:t>
            </a:r>
            <a:r>
              <a:rPr b="0" i="1" lang="en-US" sz="2400" spc="-1" strike="noStrike">
                <a:solidFill>
                  <a:srgbClr val="993366"/>
                </a:solidFill>
                <a:latin typeface="Arial"/>
              </a:rPr>
              <a:t>terminal control box</a:t>
            </a:r>
            <a:r>
              <a:rPr b="0" lang="en-US" sz="24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croprogrammed automatic machine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processor/ communication controll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22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7416720" cy="3969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92360" y="6922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System-on-C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284640"/>
            <a:ext cx="18414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3640" y="1844640"/>
            <a:ext cx="194328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66"/>
                </a:solidFill>
                <a:latin typeface="Arial"/>
              </a:rPr>
              <a:t>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3366"/>
                </a:solidFill>
                <a:latin typeface="Arial"/>
              </a:rPr>
              <a:t>Intellectual Proper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29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619280" y="2133720"/>
            <a:ext cx="596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urier New"/>
              </a:rPr>
              <a:t>The principles of So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urier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ourier New"/>
              </a:rPr>
              <a:t>organ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33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540440" y="549360"/>
            <a:ext cx="636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Microprocessor Core (IP-un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architectu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56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38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Разработка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-блоков;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 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Конструирование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oC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 на системно-функциональном уровне из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C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;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  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 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Интеграция всех блоков на кристалле.</a:t>
              </a: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   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95280" y="404640"/>
            <a:ext cx="8280360" cy="597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5761080" cy="4975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034640" y="549360"/>
            <a:ext cx="70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Microprocessor Core</a:t>
            </a:r>
            <a:r>
              <a:rPr b="0" lang="en-US" sz="28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arran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250920" y="260280"/>
            <a:ext cx="8642160" cy="6337440"/>
            <a:chOff x="250920" y="260280"/>
            <a:chExt cx="8642160" cy="6337440"/>
          </a:xfrm>
        </p:grpSpPr>
        <p:sp>
          <p:nvSpPr>
            <p:cNvPr id="144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5280" y="404640"/>
              <a:ext cx="8353440" cy="604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01200" y="620640"/>
            <a:ext cx="80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The Structure of Microprocessor Co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Courier New"/>
              </a:rPr>
              <a:t>on S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77058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9T14:48:59Z</dcterms:created>
  <dc:creator>koriavaia</dc:creator>
  <dc:description/>
  <dc:language>en-US</dc:language>
  <cp:lastModifiedBy>koriavaia</cp:lastModifiedBy>
  <dcterms:modified xsi:type="dcterms:W3CDTF">2005-06-30T05:27:27Z</dcterms:modified>
  <cp:revision>35</cp:revision>
  <dc:subject/>
  <dc:title>Слайд 1</dc:title>
</cp:coreProperties>
</file>