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6965-0FA5-4576-AB5C-324A729355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ers don’t care which way of distribution video his provider will chose. I speak about service technology develop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 a business approach which was proved by life experien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United Kingdom changed the economic trend, having chose to render a service (in contrast to Italy which preferred manufacture way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such reliable approach to “the last mile”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 years ago NHK company suggested ISDB. I suppose such kind of idea was like a breakthrough in broadcasting area. But 10 years later it looks terrible.  If you take a look at this picture you can see that woman transformed your cosy home to mini tv-station. She is not a house-kee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multimedia services provider for herself and her family. Using MM home terminal you can be free from such du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do it automaticall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necessary to spent money, time and to have a brainstorm everytime when you wanna use such complicated technolo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ny of these devices have the similar functions. It leads to reduction of purchase power. B Manufactures have to explain to consumer the advantages of new devices.  To give the reason why they should buy this product. There is problem with  home technology integration.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jor shortco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always possible to built such network. There are many difficulties on this way. How to integrate tecnology which belongs to different generation. It doesn’t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9F5-F4F9-4192-82B8-F1DCD1C3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85B-73DD-47CA-BE45-72BDFE5E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983-0AA3-4B0D-814A-B252B312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632-30B3-4DD1-BC7C-567D508D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39B6-FC37-4B62-B5CC-C9323632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F49-9318-466E-9A7C-7DEA74C5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59C-8900-4CA3-8D3B-A174FDB3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B9B-A2D5-433E-A71C-32C37315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168-1564-433B-810C-2D55E27D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D378-C7CD-4453-87A7-DEA62083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7760-22C0-4883-9844-60696916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877-F224-4BB6-86B9-503E7B59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6665-716F-4836-891F-82F1C22C73A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54FF-E994-4739-85D9-290A1FDCD6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71600" y="3398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exandr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Fe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50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51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258920" y="1628640"/>
            <a:ext cx="70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 Black"/>
              </a:rPr>
              <a:t>Multimedia Home Term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6B7-6E0E-4E59-9E6F-54074048D2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AD924-1362-445A-8994-735CCF6A9D95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 flipH="1">
            <a:off x="3995280" y="1700280"/>
            <a:ext cx="2592360" cy="3960720"/>
          </a:xfrm>
          <a:prstGeom prst="line">
            <a:avLst/>
          </a:prstGeom>
          <a:ln w="255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rcRect l="1894" t="64423" r="79212" b="2776"/>
          <a:stretch/>
        </p:blipFill>
        <p:spPr>
          <a:xfrm>
            <a:off x="5796000" y="3284640"/>
            <a:ext cx="1332000" cy="1512720"/>
          </a:xfrm>
          <a:prstGeom prst="rect">
            <a:avLst/>
          </a:prstGeom>
          <a:ln w="9360">
            <a:solidFill>
              <a:srgbClr val="000026"/>
            </a:solidFill>
            <a:miter/>
          </a:ln>
        </p:spPr>
      </p:pic>
      <p:sp>
        <p:nvSpPr>
          <p:cNvPr id="350" name=""/>
          <p:cNvSpPr/>
          <p:nvPr/>
        </p:nvSpPr>
        <p:spPr>
          <a:xfrm>
            <a:off x="6568560" y="19368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800"/>
                </a:solidFill>
                <a:latin typeface="Arial"/>
              </a:rPr>
              <a:t>The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67640" y="5373720"/>
            <a:ext cx="1224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-top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rcRect l="77507" t="63150" r="3616" b="2749"/>
          <a:stretch/>
        </p:blipFill>
        <p:spPr>
          <a:xfrm>
            <a:off x="7308720" y="3860640"/>
            <a:ext cx="1548000" cy="12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3" name="Homepage"/>
          <p:cNvSpPr/>
          <p:nvPr/>
        </p:nvSpPr>
        <p:spPr>
          <a:xfrm>
            <a:off x="4427640" y="5084640"/>
            <a:ext cx="792000" cy="865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Homepage"/>
          <p:cNvSpPr/>
          <p:nvPr/>
        </p:nvSpPr>
        <p:spPr>
          <a:xfrm>
            <a:off x="1442880" y="2060640"/>
            <a:ext cx="825480" cy="8668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Homepage"/>
          <p:cNvSpPr/>
          <p:nvPr/>
        </p:nvSpPr>
        <p:spPr>
          <a:xfrm>
            <a:off x="2700360" y="4869000"/>
            <a:ext cx="792000" cy="865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Homepage"/>
          <p:cNvSpPr/>
          <p:nvPr/>
        </p:nvSpPr>
        <p:spPr>
          <a:xfrm>
            <a:off x="1547640" y="3573360"/>
            <a:ext cx="792360" cy="863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01480" y="350028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oup of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0088400">
            <a:off x="2626920" y="430920"/>
            <a:ext cx="4168080" cy="435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63" y="9"/>
                </a:moveTo>
                <a:arcTo wR="10800" hR="10800" stAng="-5539067" swAng="5962656"/>
                <a:lnTo>
                  <a:pt x="10800" y="10800"/>
                </a:lnTo>
                <a:close/>
              </a:path>
              <a:path fill="none" w="21600" h="21600">
                <a:moveTo>
                  <a:pt x="10363" y="9"/>
                </a:moveTo>
                <a:arcTo wR="10800" hR="10800" stAng="-5539067" swAng="596265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56360" y="5157720"/>
            <a:ext cx="1295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36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36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Valuable sugges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BDAB-B004-4F0D-BF4F-8E383F97F93E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60E83-2285-4AC5-98D5-D03E8E22A3AB}" type="datetime1">
              <a:rPr lang="en-US"/>
              <a:t>07/31/26</a:t>
            </a:fld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7 L -0.1908 -0.29907 E">
                                      <p:cBhvr>
                                        <p:cTn id="472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L 0.09462 0.07338 E">
                                      <p:cBhvr>
                                        <p:cTn id="475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8.14815E-006 L 0.14166 0.04214 E">
                                      <p:cBhvr>
                                        <p:cTn id="477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92360" y="2130480"/>
            <a:ext cx="676584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ittle  math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a800"/>
                </a:solidFill>
                <a:latin typeface="Comic Sans MS"/>
              </a:rPr>
              <a:t>1 chann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quires some </a:t>
            </a:r>
            <a:r>
              <a:rPr b="0" lang="en-US" sz="2400" spc="-1" strike="noStrike">
                <a:solidFill>
                  <a:srgbClr val="00a800"/>
                </a:solidFill>
                <a:latin typeface="Comic Sans MS"/>
              </a:rPr>
              <a:t>4 Mb/s</a:t>
            </a:r>
            <a:br>
              <a:rPr sz="2400"/>
            </a:br>
            <a:r>
              <a:rPr b="0" lang="en-US" sz="2400" spc="-1" strike="noStrike">
                <a:solidFill>
                  <a:srgbClr val="00a800"/>
                </a:solidFill>
                <a:latin typeface="Comic Sans MS"/>
              </a:rPr>
              <a:t>120 channe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fit in </a:t>
            </a:r>
            <a:r>
              <a:rPr b="0" lang="en-US" sz="2400" spc="-1" strike="noStrike">
                <a:solidFill>
                  <a:srgbClr val="00a800"/>
                </a:solidFill>
                <a:latin typeface="Comic Sans MS"/>
              </a:rPr>
              <a:t>500 Mb/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t’s unicast (point to point) architectur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means, there are </a:t>
            </a:r>
            <a:r>
              <a:rPr b="0" lang="en-US" sz="2400" spc="-1" strike="noStrike">
                <a:solidFill>
                  <a:srgbClr val="00a800"/>
                </a:solidFill>
                <a:latin typeface="Comic Sans MS"/>
              </a:rPr>
              <a:t>120 termina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could be a hotel or business company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imate that 2-3 persons are in each ro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, we get </a:t>
            </a:r>
            <a:r>
              <a:rPr b="0" lang="en-US" sz="2400" spc="-1" strike="noStrike">
                <a:solidFill>
                  <a:srgbClr val="00a800"/>
                </a:solidFill>
                <a:latin typeface="Comic Sans MS"/>
              </a:rPr>
              <a:t>400 use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our multimedia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7280" y="62064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Size of customer’s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387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388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9D5-5764-433C-93B4-F5BE3590D1A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9B242-A529-494D-ADB2-1BC6810444E2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547640" y="1268280"/>
            <a:ext cx="3024360" cy="44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Cloud"/>
          <p:cNvSpPr/>
          <p:nvPr/>
        </p:nvSpPr>
        <p:spPr>
          <a:xfrm>
            <a:off x="5003640" y="2349360"/>
            <a:ext cx="2305080" cy="120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3933720"/>
            <a:ext cx="718920" cy="8654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356000" y="2060640"/>
            <a:ext cx="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050920" y="5013360"/>
            <a:ext cx="1513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835280" y="2924280"/>
            <a:ext cx="1296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08000" y="3284640"/>
            <a:ext cx="108144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619280" y="1484280"/>
            <a:ext cx="2663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vision &amp;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130560" y="2133720"/>
            <a:ext cx="1081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Strea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2133720"/>
            <a:ext cx="1224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amb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95640" y="4365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564000" y="5300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32000" y="3716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356000" y="2924280"/>
            <a:ext cx="720720" cy="0"/>
          </a:xfrm>
          <a:prstGeom prst="line">
            <a:avLst/>
          </a:prstGeom>
          <a:ln w="3492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76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6360" y="220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58920" y="3357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1476360" y="242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7636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8360" y="19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16360" y="22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11640" y="22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635280" y="19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27640" y="3933720"/>
            <a:ext cx="25923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monitor"/>
          <p:cNvSpPr/>
          <p:nvPr/>
        </p:nvSpPr>
        <p:spPr>
          <a:xfrm>
            <a:off x="6372360" y="4653000"/>
            <a:ext cx="504720" cy="441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modem"/>
          <p:cNvSpPr/>
          <p:nvPr/>
        </p:nvSpPr>
        <p:spPr>
          <a:xfrm>
            <a:off x="6261120" y="4338720"/>
            <a:ext cx="615960" cy="242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236000" y="3141720"/>
            <a:ext cx="647640" cy="720720"/>
          </a:xfrm>
          <a:prstGeom prst="line">
            <a:avLst/>
          </a:prstGeom>
          <a:ln w="3492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138360" y="3908520"/>
            <a:ext cx="102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op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37236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93080" y="393372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885080" y="393372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27640" y="5084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227640" y="5877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57640" y="575316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aming Head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030160" y="3645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348000" y="2637000"/>
            <a:ext cx="719280" cy="936360"/>
          </a:xfrm>
          <a:prstGeom prst="can">
            <a:avLst>
              <a:gd name="adj" fmla="val 15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9564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447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448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" descr=""/>
          <p:cNvPicPr/>
          <p:nvPr/>
        </p:nvPicPr>
        <p:blipFill>
          <a:blip r:embed="rId1"/>
          <a:srcRect l="24106" t="9860" r="45083" b="58919"/>
          <a:stretch/>
        </p:blipFill>
        <p:spPr>
          <a:xfrm>
            <a:off x="755640" y="1700280"/>
            <a:ext cx="720720" cy="4460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rcRect l="20409" t="7280" r="41361" b="30293"/>
          <a:stretch/>
        </p:blipFill>
        <p:spPr>
          <a:xfrm>
            <a:off x="900000" y="2781360"/>
            <a:ext cx="524160" cy="792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Valuable sugges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8F5-913A-4F64-8CEB-3DC16BE16705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9D5CA-FAE3-40FC-B4EA-A17D55656149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473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474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470600" y="1598760"/>
            <a:ext cx="64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-networks are not the only way of distrib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around the h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607760" y="2492280"/>
            <a:ext cx="669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800"/>
                </a:solidFill>
                <a:latin typeface="Arial"/>
              </a:rPr>
              <a:t>DVB-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a800"/>
                </a:solidFill>
                <a:latin typeface="Arial"/>
              </a:rPr>
              <a:t>DVB-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ulation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standard </a:t>
            </a:r>
            <a:r>
              <a:rPr b="1" lang="en-US" sz="2400" spc="-1" strike="noStrike">
                <a:solidFill>
                  <a:srgbClr val="00a800"/>
                </a:solidFill>
                <a:latin typeface="Arial"/>
              </a:rPr>
              <a:t>IEEE 802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2400" spc="-1" strike="noStrike">
                <a:solidFill>
                  <a:srgbClr val="00a800"/>
                </a:solidFill>
                <a:latin typeface="Arial"/>
              </a:rPr>
              <a:t>IEEE 802.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lu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03184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485440" y="470052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To attract consumers wit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Valuable sugges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356-E565-44DC-BF3E-84FF7FF1053D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44C58-DF59-47C7-AB3F-7368BB341EDC}" type="datetime1">
              <a:rPr lang="en-US"/>
              <a:t>07/31/26</a:t>
            </a:fld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780000" y="5587920"/>
            <a:ext cx="5400360" cy="5050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8dc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76000" y="1341360"/>
            <a:ext cx="65502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new idea, place and function for broadcaster is!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867840" y="38606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187280" y="4627440"/>
            <a:ext cx="46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no servic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501440" y="556416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no money from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076720" y="4797360"/>
            <a:ext cx="1800360" cy="1008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6779470"/>
                <a:lnTo>
                  <a:pt x="6582" y="858"/>
                </a:lnTo>
                <a:arcTo wR="10800" hR="10800" stAng="-6779470" swAng="677947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8dc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863360" y="2276640"/>
            <a:ext cx="645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near to customer and suggest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media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337760" y="3284640"/>
            <a:ext cx="67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-day broadcaster serve millions of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509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510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Valuable ide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9431-5367-4EFC-B6C3-0FF203CCB88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9067B-315E-4610-A704-B2CBF708FC0D}" type="datetime1">
              <a:rPr lang="en-US"/>
              <a:t>07/31/26</a:t>
            </a:fld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116000" y="404640"/>
            <a:ext cx="7056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76360" y="2349000"/>
            <a:ext cx="2517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195640" y="3502080"/>
            <a:ext cx="50328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11280" y="4005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79640" y="414972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123640" y="458136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411280" y="4581360"/>
            <a:ext cx="287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87640" y="347040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ay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508720" y="1197000"/>
            <a:ext cx="244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V programming based on personal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D supplying multimedia content description (sum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” advertis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ing of home video and sharing content among the official “Friends” use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perso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82280" y="34765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72000" y="1557360"/>
            <a:ext cx="431640" cy="4751280"/>
          </a:xfrm>
          <a:custGeom>
            <a:avLst/>
            <a:gdLst>
              <a:gd name="textAreaLeft" fmla="*/ 275760 w 431640"/>
              <a:gd name="textAreaRight" fmla="*/ 432000 w 43164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1160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Media service providers bene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545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546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1A6-4EDD-4053-ACDA-29EF212A712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5067B-4032-4890-93E5-CAED67818108}" type="datetime1">
              <a:rPr lang="en-US"/>
              <a:t>07/31/26</a:t>
            </a:fld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1160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Media service providers bene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603440" y="167652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926880" y="206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551600" y="2635200"/>
            <a:ext cx="70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your aud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the things they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like</a:t>
            </a:r>
            <a:br>
              <a:rPr sz="2400"/>
            </a:b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547640" y="3213000"/>
            <a:ext cx="71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feed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a partnership built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tr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with clearly defined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80000" y="4214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552680" y="4076640"/>
            <a:ext cx="726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built business models being confident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your custo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not disappe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lives 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575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576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676-D72B-4B22-A2BB-28328969A7A1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71499-8969-44AB-8AA3-4AF97F448ACD}" type="datetime1">
              <a:rPr lang="en-US"/>
              <a:t>07/31/26</a:t>
            </a:fld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598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599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0" name="" descr=""/>
          <p:cNvPicPr/>
          <p:nvPr/>
        </p:nvPicPr>
        <p:blipFill>
          <a:blip r:embed="rId1"/>
          <a:srcRect l="1106" t="2237" r="4130" b="52238"/>
          <a:stretch/>
        </p:blipFill>
        <p:spPr>
          <a:xfrm>
            <a:off x="1619280" y="1484280"/>
            <a:ext cx="6121440" cy="43927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Integrated servi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7F16-0665-4AF1-9F78-FC339724CE34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EBECA-6348-4C22-9C72-53B985536F76}" type="datetime1">
              <a:rPr lang="en-US"/>
              <a:t>07/31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640" y="5414760"/>
            <a:ext cx="309384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P Set Top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116000" y="404640"/>
            <a:ext cx="70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As for equipment (hardwar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5599080" y="3716280"/>
            <a:ext cx="2286000" cy="190512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2357280" y="3645000"/>
            <a:ext cx="2286000" cy="190476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1474920" y="194076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unctions of multimedia service are concentrated on one term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’ place is equipped by IP Set box, TV set, remount control and PC with blaster (PCA-car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032160" y="558972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CA-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29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630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DFA-B1FD-42EC-B717-CACA1D08A46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576FB-5E0C-44C1-AB9E-BE55B144EAF8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125892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Comic Sans MS"/>
              </a:rPr>
              <a:t>Our motto is</a:t>
            </a:r>
            <a:r>
              <a:rPr b="1" lang="ru-RU" sz="3600" spc="-1" strike="noStrike">
                <a:solidFill>
                  <a:srgbClr val="0066cc"/>
                </a:solidFill>
                <a:latin typeface="Comic Sans MS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Ways of promo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332000" y="520380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need to pay only for service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476360" y="1916280"/>
            <a:ext cx="684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duce a service technolo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ardware and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how the possibilities of our products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making a showro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everyone can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try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ultimedia terminal and practically see the benefits of  new service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free for p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56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657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FB0-6BA5-4C2A-BD93-6CF9D3577FDB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7AB6A-E977-45F8-B372-15CBAED31B6C}" type="datetime1">
              <a:rPr lang="en-US"/>
              <a:t>07/31/26</a:t>
            </a:fld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4920" y="1628640"/>
            <a:ext cx="6697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rn home today has been filled up wit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ntellig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-to-dat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echnol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. Most of this technology consist  of multimedia devi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Subject definition_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76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77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CCDA-31C1-4220-B720-827FA76C86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E4038-F899-44B2-8DD7-AF961B580A43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332000" y="237960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Thanks for attention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80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681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B01-F134-4A6B-ADDD-4B47E88D750D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78FEF-240B-44D2-8144-B7FE0C848122}" type="datetime1">
              <a:rPr lang="en-US"/>
              <a:t>07/31/26</a:t>
            </a:fld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1052280"/>
            <a:ext cx="482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328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8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a800"/>
                </a:solidFill>
                <a:latin typeface="Arial"/>
              </a:rPr>
              <a:t>Major shortcom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sibility to built a network connecting all household equipment and control remotely is not always managed. </a:t>
            </a:r>
            <a:r>
              <a:rPr b="1" lang="en-US" sz="2000" spc="-1" strike="noStrike">
                <a:solidFill>
                  <a:srgbClr val="8dc6ff"/>
                </a:solidFill>
                <a:latin typeface="Arial"/>
              </a:rPr>
              <a:t>Smart h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ology still hasn’t become an affordable reality for a large amount of consu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Traditional approach_1</a:t>
            </a:r>
            <a:r>
              <a:rPr b="1" lang="en-US" sz="4400" spc="-1" strike="noStrike">
                <a:solidFill>
                  <a:srgbClr val="0066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12000" y="3602160"/>
            <a:ext cx="2381040" cy="1771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04000" y="4005360"/>
            <a:ext cx="1228680" cy="100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116000" y="3716280"/>
            <a:ext cx="1380960" cy="86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427640" y="3716280"/>
            <a:ext cx="666720" cy="70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771640" y="3789360"/>
            <a:ext cx="1381320" cy="324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4716360" y="526104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971640" y="5734080"/>
            <a:ext cx="2381040" cy="809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234936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gra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ll devices isn’t alway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8"/>
          <a:srcRect l="16408" t="5137" r="16408" b="6734"/>
          <a:stretch/>
        </p:blipFill>
        <p:spPr>
          <a:xfrm>
            <a:off x="1042920" y="3357720"/>
            <a:ext cx="1582920" cy="1295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4124160" y="4581360"/>
            <a:ext cx="1239840" cy="790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771640" y="4508640"/>
            <a:ext cx="1224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987280" y="429228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71880" y="4365720"/>
            <a:ext cx="480960" cy="647640"/>
          </a:xfrm>
          <a:custGeom>
            <a:avLst/>
            <a:gdLst/>
            <a:ahLst/>
            <a:rect l="l" t="t" r="r" b="b"/>
            <a:pathLst>
              <a:path w="303" h="408">
                <a:moveTo>
                  <a:pt x="38" y="408"/>
                </a:moveTo>
                <a:cubicBezTo>
                  <a:pt x="19" y="313"/>
                  <a:pt x="0" y="219"/>
                  <a:pt x="38" y="181"/>
                </a:cubicBezTo>
                <a:cubicBezTo>
                  <a:pt x="76" y="143"/>
                  <a:pt x="227" y="211"/>
                  <a:pt x="265" y="181"/>
                </a:cubicBezTo>
                <a:cubicBezTo>
                  <a:pt x="303" y="151"/>
                  <a:pt x="265" y="30"/>
                  <a:pt x="265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116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227400" y="4510080"/>
            <a:ext cx="480960" cy="647640"/>
          </a:xfrm>
          <a:custGeom>
            <a:avLst/>
            <a:gdLst/>
            <a:ahLst/>
            <a:rect l="l" t="t" r="r" b="b"/>
            <a:pathLst>
              <a:path w="303" h="408">
                <a:moveTo>
                  <a:pt x="38" y="408"/>
                </a:moveTo>
                <a:cubicBezTo>
                  <a:pt x="19" y="313"/>
                  <a:pt x="0" y="219"/>
                  <a:pt x="38" y="181"/>
                </a:cubicBezTo>
                <a:cubicBezTo>
                  <a:pt x="76" y="143"/>
                  <a:pt x="227" y="211"/>
                  <a:pt x="265" y="181"/>
                </a:cubicBezTo>
                <a:cubicBezTo>
                  <a:pt x="303" y="151"/>
                  <a:pt x="265" y="30"/>
                  <a:pt x="265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5AA-B9FC-4032-B058-9AA57640526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81591-0BBF-457C-82A4-9C56E37B6AF1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59259E-006 L -0.39791 0.07361 E">
                                      <p:cBhvr>
                                        <p:cTn id="2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C 0.04774 0.01991 0.09566 0.03982 0.14479 0.03681 C 0.19393 0.0338 0.26979 -0.00926 0.29479 -0.01852 E">
                                      <p:cBhvr>
                                        <p:cTn id="6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C 0.00747 -0.01968 0.01493 -0.03912 0.01719 -0.06204 C 0.01945 -0.08495 0.02014 -0.11389 0.01372 -0.13796 C 0.00729 -0.16204 -0.01302 -0.19398 -0.02083 -0.20694 C -0.02865 -0.21991 -0.03073 -0.21805 -0.03281 -0.2162 E">
                                      <p:cBhvr>
                                        <p:cTn id="6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40741E-007 C -0.03524 -0.00533 -0.07048 -0.01065 -0.09826 -0.01135 C -0.12604 -0.01204 -0.1467 -0.00834 -0.16718 -0.0044 E">
                                      <p:cBhvr>
                                        <p:cTn id="6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C -0.0243 -0.01227 -0.04791 -0.02292 -0.08021 1.48148E-006 C -0.11232 0.02407 -0.17396 0.12361 -0.19201 0.14375 E">
                                      <p:cBhvr>
                                        <p:cTn id="6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3.33333E-006 C -0.01789 0.01458 -0.0356 0.0294 -0.04653 0.05972 C -0.05747 0.09005 -0.07448 0.14329 -0.06563 0.18148 C -0.05678 0.21968 -0.0073 0.27037 0.00678 0.28958 C 0.02084 0.3088 0.0198 0.30255 0.01893 0.29653 E">
                                      <p:cBhvr>
                                        <p:cTn id="7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2920" y="1557000"/>
            <a:ext cx="69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s is looking for a new way to attract consumer’s attention to their produc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 "/>
          <p:cNvPicPr/>
          <p:nvPr/>
        </p:nvPicPr>
        <p:blipFill>
          <a:blip r:embed="rId1"/>
          <a:stretch/>
        </p:blipFill>
        <p:spPr>
          <a:xfrm>
            <a:off x="5148360" y="3141720"/>
            <a:ext cx="3714480" cy="1752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58920" y="47628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Traditional approach_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21280" y="2708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42560" y="3642840"/>
            <a:ext cx="43210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the installation of new software is rather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hard to underst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ieces of equipment have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similar 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41360" y="4653000"/>
            <a:ext cx="438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Comic Sans MS"/>
              </a:rPr>
              <a:t>Why should the consumer waste money buying the same th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95480" y="5176800"/>
            <a:ext cx="34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3645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s have no desire to buy new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47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148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336840" y="263376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800"/>
                </a:solidFill>
                <a:latin typeface="Arial"/>
              </a:rPr>
              <a:t>P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9040" y="311616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Video Rec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F39C-498E-4909-94C7-19CAA3C45B1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CE060-30BF-4499-813F-B1D9610E4717}" type="datetime1">
              <a:rPr lang="en-US"/>
              <a:t>07/31/26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8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18920" y="1773000"/>
            <a:ext cx="683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joint functions from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Valuable sugges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314172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cc"/>
                </a:solidFill>
                <a:latin typeface="Arial"/>
              </a:rPr>
              <a:t>Consumers sometimes are not even aware of certain possib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60200" y="5392800"/>
            <a:ext cx="3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76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177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620360" y="2295360"/>
            <a:ext cx="607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esent the list of multimedia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91280" y="4051440"/>
            <a:ext cx="48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ransform functions to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EA6-F8F9-4635-9854-999C25BF782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FD3F7-53B5-4C75-89DF-EB81D1F07B00}" type="datetime1">
              <a:rPr lang="en-US"/>
              <a:t>07/31/26</a:t>
            </a:fld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D and HD TV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VOD (Video on Demand)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116000" y="2276280"/>
            <a:ext cx="6408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ive-p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a800"/>
                </a:solidFill>
                <a:latin typeface="Arial"/>
              </a:rPr>
              <a:t>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a800"/>
                </a:solidFill>
                <a:latin typeface="Arial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a800"/>
                </a:solidFill>
                <a:latin typeface="Arial"/>
              </a:rPr>
              <a:t>rec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203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The list of services_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87280" y="1557360"/>
            <a:ext cx="5832720" cy="792000"/>
          </a:xfrm>
          <a:prstGeom prst="rect">
            <a:avLst/>
          </a:prstGeom>
          <a:solidFill>
            <a:srgbClr val="8dc6ff">
              <a:alpha val="40000"/>
            </a:srgbClr>
          </a:solidFill>
          <a:ln w="9360">
            <a:solidFill>
              <a:srgbClr val="8dc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58920" y="3284640"/>
            <a:ext cx="208908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58920" y="4076640"/>
            <a:ext cx="208908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58920" y="4940280"/>
            <a:ext cx="208908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48000" y="4941720"/>
            <a:ext cx="237636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48000" y="3284640"/>
            <a:ext cx="230364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59280" y="3789360"/>
            <a:ext cx="7272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51640" y="3284640"/>
            <a:ext cx="3168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48000" y="4076640"/>
            <a:ext cx="2376360" cy="14436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51640" y="4076640"/>
            <a:ext cx="316836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4800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72436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202920" y="3787920"/>
            <a:ext cx="73080" cy="21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5615640" y="3753720"/>
            <a:ext cx="216000" cy="287280"/>
          </a:xfrm>
          <a:prstGeom prst="triangle">
            <a:avLst>
              <a:gd name="adj" fmla="val 5007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5759640" y="3753360"/>
            <a:ext cx="216000" cy="287640"/>
          </a:xfrm>
          <a:prstGeom prst="triangle">
            <a:avLst>
              <a:gd name="adj" fmla="val 5007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8172360" y="3499920"/>
            <a:ext cx="0" cy="50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645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7EFD-C31C-447E-B2DF-67BC4D2BFDF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AD895-FB7E-41D8-A5CB-8FD5A6DA510D}" type="datetime1">
              <a:rPr lang="en-US"/>
              <a:t>07/31/26</a:t>
            </a:fld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1.48148E-006 L 0.24809 -0.12593 E">
                                      <p:cBhvr>
                                        <p:cTn id="247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0.25208 -0.00509 E">
                                      <p:cBhvr>
                                        <p:cTn id="264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The list of services_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91960" y="1412640"/>
            <a:ext cx="7196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fo chann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76360" y="2852640"/>
            <a:ext cx="4535640" cy="2952720"/>
          </a:xfrm>
          <a:prstGeom prst="rect">
            <a:avLst/>
          </a:prstGeom>
          <a:solidFill>
            <a:srgbClr val="8dc6ff"/>
          </a:solidFill>
          <a:ln w="9360">
            <a:solidFill>
              <a:srgbClr val="8dc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47640" y="2924280"/>
            <a:ext cx="1008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19280" y="3429000"/>
            <a:ext cx="1657440" cy="2232000"/>
          </a:xfrm>
          <a:prstGeom prst="rect">
            <a:avLst/>
          </a:prstGeom>
          <a:solidFill>
            <a:srgbClr val="00a800">
              <a:alpha val="23000"/>
            </a:srgbClr>
          </a:solidFill>
          <a:ln w="93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unning 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gfam Lis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rogram tit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19640" y="3429000"/>
            <a:ext cx="1439640" cy="2232000"/>
          </a:xfrm>
          <a:prstGeom prst="rect">
            <a:avLst/>
          </a:prstGeom>
          <a:solidFill>
            <a:srgbClr val="00a800">
              <a:alpha val="23000"/>
            </a:srgbClr>
          </a:solidFill>
          <a:ln w="93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ff&amp;com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32360" y="3429000"/>
            <a:ext cx="1008000" cy="2232000"/>
          </a:xfrm>
          <a:prstGeom prst="rect">
            <a:avLst/>
          </a:prstGeom>
          <a:solidFill>
            <a:srgbClr val="00a800">
              <a:alpha val="23000"/>
            </a:srgbClr>
          </a:solidFill>
          <a:ln w="93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ion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ann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71640" y="2924280"/>
            <a:ext cx="280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08320" y="582444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 of Display Information for TV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253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694520" y="1892160"/>
            <a:ext cx="29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859280" y="1700280"/>
            <a:ext cx="1081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859280" y="2060280"/>
            <a:ext cx="1152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59280" y="2421000"/>
            <a:ext cx="1152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15960" y="147780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/time of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7040" y="183816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-sensitiv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15240" y="227016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’s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869A-89C4-4C2C-BEFE-F6C30B57471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A98CF-97CF-4417-B150-CE78D4B5E181}" type="datetime1">
              <a:rPr lang="en-US"/>
              <a:t>07/31/26</a:t>
            </a:fld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The list of services_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87280" y="1123920"/>
            <a:ext cx="266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fo chann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76360" y="2852640"/>
            <a:ext cx="4535640" cy="2952720"/>
          </a:xfrm>
          <a:prstGeom prst="rect">
            <a:avLst/>
          </a:prstGeom>
          <a:solidFill>
            <a:srgbClr val="8dc6ff"/>
          </a:solidFill>
          <a:ln w="9360">
            <a:solidFill>
              <a:srgbClr val="8dc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47640" y="2924280"/>
            <a:ext cx="1008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19280" y="3429000"/>
            <a:ext cx="1657440" cy="2232000"/>
          </a:xfrm>
          <a:prstGeom prst="rect">
            <a:avLst/>
          </a:prstGeom>
          <a:solidFill>
            <a:srgbClr val="00a800">
              <a:alpha val="23000"/>
            </a:srgbClr>
          </a:solidFill>
          <a:ln w="93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unning 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gfam Lis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rogram tit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924280"/>
            <a:ext cx="280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V recomme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10120" y="5824440"/>
            <a:ext cx="64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 of the Program Recommendation Menu 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’s preferen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35280" y="5229360"/>
            <a:ext cx="24494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program is the m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mmende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140360" y="3500280"/>
            <a:ext cx="718920" cy="5256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138560" y="4076640"/>
            <a:ext cx="720720" cy="5414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861800" y="328464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4140360" y="4670280"/>
            <a:ext cx="718920" cy="540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 flipH="1">
            <a:off x="4858920" y="3573360"/>
            <a:ext cx="35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296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97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187280" y="1719360"/>
            <a:ext cx="74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edia Data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exing of multimedia content for others to brows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BF79-FD7D-4B8A-944A-ECD236A86FA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49856-5155-4752-B0B6-C44D0C22FF33}" type="datetime1">
              <a:rPr lang="en-US"/>
              <a:t>07/31/26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116000" y="40464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Where should the server be situ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rcRect l="1894" t="64423" r="79212" b="2776"/>
          <a:stretch/>
        </p:blipFill>
        <p:spPr>
          <a:xfrm>
            <a:off x="2627280" y="1916280"/>
            <a:ext cx="1332000" cy="1512720"/>
          </a:xfrm>
          <a:prstGeom prst="rect">
            <a:avLst/>
          </a:prstGeom>
          <a:ln w="9360">
            <a:solidFill>
              <a:srgbClr val="000026"/>
            </a:solidFill>
            <a:miter/>
          </a:ln>
        </p:spPr>
      </p:pic>
      <p:sp>
        <p:nvSpPr>
          <p:cNvPr id="321" name=""/>
          <p:cNvSpPr/>
          <p:nvPr/>
        </p:nvSpPr>
        <p:spPr>
          <a:xfrm>
            <a:off x="6234840" y="184932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800"/>
                </a:solidFill>
                <a:latin typeface="Comic Sans MS"/>
              </a:rPr>
              <a:t>The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284360" y="1700280"/>
            <a:ext cx="1222200" cy="4249800"/>
          </a:xfrm>
          <a:prstGeom prst="line">
            <a:avLst/>
          </a:prstGeom>
          <a:ln w="381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rcRect l="77507" t="63150" r="3616" b="2749"/>
          <a:stretch/>
        </p:blipFill>
        <p:spPr>
          <a:xfrm>
            <a:off x="6877080" y="4149720"/>
            <a:ext cx="158256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4" name=""/>
          <p:cNvSpPr/>
          <p:nvPr/>
        </p:nvSpPr>
        <p:spPr>
          <a:xfrm>
            <a:off x="1187280" y="2492280"/>
            <a:ext cx="3888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&amp;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instal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326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327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EF6-3EDD-48E2-93EB-4BE061E1B937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E587C-F484-4C66-879D-D4EF649F836F}" type="datetime1">
              <a:rPr lang="en-US"/>
              <a:t>07/31/26</a:t>
            </a:fld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33333E-006 L 0.39201 0.07894 E">
                                      <p:cBhvr>
                                        <p:cTn id="418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9062 0.02639 E">
                                      <p:cBhvr>
                                        <p:cTn id="420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5T10:37:53Z</dcterms:created>
  <dc:creator>*</dc:creator>
  <dc:description/>
  <dc:language>en-US</dc:language>
  <cp:lastModifiedBy>teacher</cp:lastModifiedBy>
  <dcterms:modified xsi:type="dcterms:W3CDTF">2005-06-30T09:15:44Z</dcterms:modified>
  <cp:revision>31</cp:revision>
  <dc:subject/>
  <dc:title>Федина</dc:title>
</cp:coreProperties>
</file>